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300430"/>
        <c:axId val="86826718"/>
      </c:barChart>
      <c:catAx>
        <c:axId val="753004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26718"/>
        <c:crosses val="autoZero"/>
        <c:auto val="1"/>
        <c:lblAlgn val="ctr"/>
        <c:lblOffset val="100"/>
        <c:noMultiLvlLbl val="0"/>
      </c:catAx>
      <c:valAx>
        <c:axId val="8682671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3004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925F-5728-4726-9193-03996A6C0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F256-B332-429D-8BA6-6FD86AFE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A3E-8A22-459D-AA15-1BF9CD9A8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27B4-4109-46C5-BD92-862C1302F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F6CE-2FD2-4D82-94DD-E201EF0E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003C-8CE3-424E-8E6F-63B6F3D3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8070-9A22-40B2-B6BD-8AF0EA7F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A384-E68D-4A18-8192-442BEE5E3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E50D-7EE6-4C62-BFCB-022BCB30B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898-ED16-43E5-A4FB-A8C1104B7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C488-F0F5-4E5E-8450-B06056E03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6828-8125-4BDE-B223-1396072B9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96594D-0959-4E23-AAFB-590124C782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