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84315"/>
        <c:axId val="5148658"/>
      </c:barChart>
      <c:catAx>
        <c:axId val="68684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8658"/>
        <c:crosses val="autoZero"/>
        <c:auto val="1"/>
        <c:lblAlgn val="ctr"/>
        <c:lblOffset val="100"/>
        <c:noMultiLvlLbl val="0"/>
      </c:catAx>
      <c:valAx>
        <c:axId val="5148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84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9BB-40F7-4EED-93DA-F4A74E7A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09C-EC01-4E32-AB3E-C8C414A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8F6-1EE4-4F77-85FD-A007C347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681-73F4-4734-8310-8CE623B4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370-A7C2-426D-A8EF-1BED183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2F6-3766-410D-99ED-833F900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533-81B1-43A2-B441-6900C145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582-0416-4A42-96FD-9226CD3E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628-0E8D-4CED-BF25-79ACD67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2F6-3F9D-4B6A-BAB3-23D0703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425-B33F-43F7-B3BA-7546227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07B-046A-4ABD-BCA6-C19C4D4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E6B4F-19F0-402D-8419-B111099A0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