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2743448"/>
        <c:axId val="77990606"/>
      </c:barChart>
      <c:catAx>
        <c:axId val="8274344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990606"/>
        <c:crosses val="autoZero"/>
        <c:auto val="1"/>
        <c:lblAlgn val="ctr"/>
        <c:lblOffset val="100"/>
        <c:noMultiLvlLbl val="0"/>
      </c:catAx>
      <c:valAx>
        <c:axId val="7799060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74344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D82A-879E-49B0-BA4F-710C836E5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E9F8-407D-4CE3-AEB3-E1C04DC68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3644-346A-4045-95AF-F98EF2ECF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4266-87BC-4863-960B-A228EF98E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8EF5-F7A2-4CB7-B8A0-12E2DC5EB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3778-1161-4B22-BF22-01A67CF2E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DC7E-3B6A-4739-80A8-EFA19664B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7C12-28A8-45A7-9A0D-7AF012ECB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9E0E-BEF6-4E6E-B003-0D38AA9A1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EDF5-110A-453B-919C-561ADBA7B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0343-8233-45E3-AC00-B33ABAE8B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5081-5A8F-4665-AEEB-5A95BC33A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F0DCC7-535B-428D-99BB-2E045429382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