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520765"/>
        <c:axId val="72193176"/>
      </c:barChart>
      <c:catAx>
        <c:axId val="525207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193176"/>
        <c:crosses val="autoZero"/>
        <c:auto val="1"/>
        <c:lblAlgn val="ctr"/>
        <c:lblOffset val="100"/>
        <c:noMultiLvlLbl val="0"/>
      </c:catAx>
      <c:valAx>
        <c:axId val="721931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5207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0595-30C6-4F18-A51D-B34FAF62C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4702-9D66-486E-A6B2-630D83414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C4AE-9CCA-47C0-8760-F066DEF98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C934-0AF3-460E-A9CB-EB2582D1D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6675-A85E-48E0-A979-A461316D7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E4C1-53EF-42BA-B7BE-2A9F8C8CA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42A1-FCDD-49AE-A808-F7DBAD690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5C79-3599-49A8-A167-680B3C8CA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04E7-5942-4C4F-A3F3-C2007072C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FAC5-AE41-406A-B73D-FF3048991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0E51-E402-410E-AE45-47427185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85C7-2D23-4810-B6C3-B5A28D342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35BB82-B3E6-46A6-B3B1-0BF0D32701D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