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51306"/>
        <c:axId val="36735609"/>
      </c:barChart>
      <c:catAx>
        <c:axId val="95251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35609"/>
        <c:crosses val="autoZero"/>
        <c:auto val="1"/>
        <c:lblAlgn val="ctr"/>
        <c:lblOffset val="100"/>
        <c:noMultiLvlLbl val="0"/>
      </c:catAx>
      <c:valAx>
        <c:axId val="36735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51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4AD-C5D2-4D47-BD3E-7FD598F0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C20-D23E-4CC0-BE40-CA77FD20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7B6-37AD-4164-A972-D8F32B10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137-7E3F-440B-8104-5D314BEE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324-C744-4384-83AC-D27FA77D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A57-7C6D-43E2-A1CB-02350DCC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2CE-E186-4E58-80EF-5323DD65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BA6-78F4-4715-A491-C73190A9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8A3-ED8C-4C1D-8B52-22C5D8F7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2BA-00B3-48FD-93F1-5622BDC3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B9F-9177-4657-A725-A56613D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7B1-990A-4CE7-8A46-8AED5F3B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AD3A9-2CF8-48A3-987E-4F2FD49A93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