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28928"/>
        <c:axId val="58322134"/>
      </c:barChart>
      <c:catAx>
        <c:axId val="3682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2134"/>
        <c:crosses val="autoZero"/>
        <c:auto val="1"/>
        <c:lblAlgn val="ctr"/>
        <c:lblOffset val="100"/>
        <c:noMultiLvlLbl val="0"/>
      </c:catAx>
      <c:valAx>
        <c:axId val="58322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2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7CD-2DA2-4C4F-AC97-7B36A66C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F4C-E920-40C6-BAC0-4BE30CA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678-8A0A-466A-A294-65DD0DA5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E19-AC1E-4268-B0E2-271EB683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8E-A041-49DD-A8F4-93C10DB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AAC-7246-4C72-8467-F2C40F45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429-2F50-4726-A961-52B0539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A77-7457-45B7-A36C-EE058B32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86C-B893-47B9-8AFC-BA8DC2F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60D-A190-4E07-AF2A-BB0BFB5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D80-4E8B-4DF3-9847-2074A12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7DC-2D3C-4A8D-81EB-CC7302E5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B99D9-E0FA-442A-B177-CF17E8C56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