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067466"/>
        <c:axId val="87522013"/>
      </c:barChart>
      <c:catAx>
        <c:axId val="530674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522013"/>
        <c:crosses val="autoZero"/>
        <c:auto val="1"/>
        <c:lblAlgn val="ctr"/>
        <c:lblOffset val="100"/>
        <c:noMultiLvlLbl val="0"/>
      </c:catAx>
      <c:valAx>
        <c:axId val="875220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0674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AEAA-7E13-4EA2-BF05-5E1457CD6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989F-BDDC-4A9B-AAAC-053ACBF4F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80B5-E746-459C-94B9-2AD0504B9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231B-9D66-4393-A1B6-70FF460FC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510E-9D74-476A-90C7-74133CCCD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6670-63ED-42FA-930A-CB3C5D106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9656-5211-44B3-9FAC-C978C8CFF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10DC-15C8-4FED-8F44-6E869EB81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A53B-74B6-4D10-A222-A910AEDF0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1A21-3266-4E4B-8477-4B89363A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C2BE-EF91-4BDE-A567-D760B1BB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65BB-EE50-405A-9E0C-6CF494AB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8C1969-D735-4514-A295-560FCD5AB11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