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423880"/>
        <c:axId val="12463600"/>
      </c:barChart>
      <c:catAx>
        <c:axId val="494238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463600"/>
        <c:crosses val="autoZero"/>
        <c:auto val="1"/>
        <c:lblAlgn val="ctr"/>
        <c:lblOffset val="100"/>
        <c:noMultiLvlLbl val="0"/>
      </c:catAx>
      <c:valAx>
        <c:axId val="124636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4238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C710-A1FC-4FE7-B5A8-292BB15B5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90DA-A917-4F57-B1DE-963123F0A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32A3-8B1E-4594-8906-FD059469D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E581-D9DC-44AD-9AC5-31A2344DD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A3F8-E197-4E6D-B406-BFA3596C1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A6C5-9DAF-4C74-BBD7-F3AE75E38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3AC9-D601-481B-BABF-713380D60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59EF-B14C-47A0-A043-AAB81EB12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6F12-53EB-46AB-BADA-0F3652AAB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5CC6-7062-4A92-BDC3-6C899E3C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D9D5-57D4-49B9-BE01-F2AED000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1B80-EE51-4987-BB9F-79300FA7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B2D722-4818-4FD1-BF9C-D4A6BDDD9B5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