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23550"/>
        <c:axId val="75280703"/>
      </c:barChart>
      <c:catAx>
        <c:axId val="93323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0703"/>
        <c:crosses val="autoZero"/>
        <c:auto val="1"/>
        <c:lblAlgn val="ctr"/>
        <c:lblOffset val="100"/>
        <c:noMultiLvlLbl val="0"/>
      </c:catAx>
      <c:valAx>
        <c:axId val="75280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23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250-5513-473A-9194-0CE6C8AB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666-C9BD-4790-B0F1-9CBA3ACF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542-C982-4B1D-A415-F15E48F2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319-0AD3-4274-8259-564F8C62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674-9D0E-4E14-863D-C597BA97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305-1CE3-427A-9532-E9BDA7F9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9DA-13BB-4292-83B8-9AAF0A95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6E8-1F57-40F4-984E-2C6BBC64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96E-BC8D-4C32-AF70-C0C9E640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682-5EE4-4AE4-8B8D-E9D1C54C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5263-9746-492C-8EAB-9CCD28D5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6FA-B4DB-4416-BFD8-08FCF348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0DC1E-3750-4AE0-B2F9-96C01A82EA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