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75471"/>
        <c:axId val="86439414"/>
      </c:barChart>
      <c:catAx>
        <c:axId val="50075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39414"/>
        <c:crosses val="autoZero"/>
        <c:auto val="1"/>
        <c:lblAlgn val="ctr"/>
        <c:lblOffset val="100"/>
        <c:noMultiLvlLbl val="0"/>
      </c:catAx>
      <c:valAx>
        <c:axId val="86439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75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E20-85FA-4A30-80C0-B6910CB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0B3-3A83-4149-BD23-92A6D1FD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8ED-8233-483F-8005-88F5F9CC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9CA-9AF7-4A70-8828-D4AD394F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44F-8586-46B9-8082-B0FA0423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B44-E437-4841-99F1-B2F79B09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1FB-14F1-4EA0-B8F2-FC139671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3C0-7388-4A6B-9FDB-8C3DCEF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44E-AC15-4369-8A30-B457594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92B-AE98-444B-B888-161C16B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84E-30DA-43EC-B093-070A962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6C3-7951-4BC9-BBF1-B7726E7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38FBE-1043-4CB6-BBBB-F2069D55A4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