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634937"/>
        <c:axId val="20478980"/>
      </c:barChart>
      <c:catAx>
        <c:axId val="866349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78980"/>
        <c:crosses val="autoZero"/>
        <c:auto val="1"/>
        <c:lblAlgn val="ctr"/>
        <c:lblOffset val="100"/>
        <c:noMultiLvlLbl val="0"/>
      </c:catAx>
      <c:valAx>
        <c:axId val="204789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6349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5A73-D0BF-45A7-810D-01438043B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1481-FE42-49D2-90EE-C404C8607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691C-40D7-4DEE-9E70-3372F386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A8FB-EAEE-42A2-9633-9F3864D6E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A28B-B37D-4E60-AB0A-015795C97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41F3-A590-4212-B98A-28721162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0557-33F3-495B-86BD-30DBFEB7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16FB-BE4E-4CE7-9FE7-AA371ABCC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3BD9-6AA6-4D3A-BA08-2B96A442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344D-B8F8-4A31-90B8-84FD8962E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4DAD-8FCA-4A15-B8E8-B94CA5F89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50C-4B11-4A39-BBFB-DECF15633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73FD1C-9CAD-49D8-B875-F9F50BCF70D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