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37548"/>
        <c:axId val="30959099"/>
      </c:barChart>
      <c:catAx>
        <c:axId val="77437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59099"/>
        <c:crosses val="autoZero"/>
        <c:auto val="1"/>
        <c:lblAlgn val="ctr"/>
        <c:lblOffset val="100"/>
        <c:noMultiLvlLbl val="0"/>
      </c:catAx>
      <c:valAx>
        <c:axId val="30959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37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4CE-40A3-43A4-A6AE-D80EF868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D9D-F056-4B13-A05E-51B5D2D5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7DC-A1B1-4574-AD5E-7E96A5D9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169-EB31-47A4-AC75-16BADFA1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D64-64E7-498F-85D2-5528434F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3EF-D51C-4D39-99B1-A6F99B57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94E-ED1D-4E46-AD08-E2996B6D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965-2F2D-4970-881D-E31B442E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B3C-598A-4A4D-81D5-0626B377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C035-2AAD-4CB4-9447-33A23A4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1BF3-572D-4247-B5FE-3DBAF0FF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4D0-39FC-4120-85F3-D783AFD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10113-1533-47E3-8197-415671DDCB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