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70843"/>
        <c:axId val="87061877"/>
      </c:barChart>
      <c:catAx>
        <c:axId val="48270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61877"/>
        <c:crosses val="autoZero"/>
        <c:auto val="1"/>
        <c:lblAlgn val="ctr"/>
        <c:lblOffset val="100"/>
        <c:noMultiLvlLbl val="0"/>
      </c:catAx>
      <c:valAx>
        <c:axId val="87061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70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7FA-92A3-4EE4-810A-F6AE6117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1AB-05DA-4160-A975-CC3F3E2F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037-BAAE-4CF6-AA4F-60F0AC65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04A-6038-48E9-B98B-2F5CD01B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2A5-E130-4742-BD6E-9C95AC35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1C3-0D27-4A5E-A8E7-B988DBD1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B50-1244-4161-9BFD-B71E5939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AC3-7EF5-4A44-93CE-EFA2490C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D40-7E54-4059-9A00-21780EAE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E93-4BC4-4ED7-BCBB-24CEAB6A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9C7-206C-4352-B23B-615DC412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5F2-92EC-4019-83E0-64981999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AE90F-71F3-425D-BE94-F01EF47405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