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26517"/>
        <c:axId val="50131679"/>
      </c:barChart>
      <c:catAx>
        <c:axId val="58426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31679"/>
        <c:crosses val="autoZero"/>
        <c:auto val="1"/>
        <c:lblAlgn val="ctr"/>
        <c:lblOffset val="100"/>
        <c:noMultiLvlLbl val="0"/>
      </c:catAx>
      <c:valAx>
        <c:axId val="50131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26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2AB-8126-4D1E-9D72-20E74D09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132-6943-48C9-977A-7F1F8362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A15-441C-4154-A15C-1116966E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60E-57F9-436B-BCB3-72881780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524-D35C-4FBE-BD64-36B71FD2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769-8E1E-4AC9-8C09-819132CA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7C4-9992-45D4-AFC5-6D583F91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157-7863-4DE8-8F63-1B0BE74D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10C-2BFF-4CB4-A113-8C3E45DF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C71-A4B9-4E83-915A-C47F8022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9A7-8588-4E6E-BA3A-A2C77512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AED-461D-44C6-AC3B-1D4DA1DF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5E035-FFC7-4AB5-860C-3F76BD09DE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