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98793"/>
        <c:axId val="10998339"/>
      </c:barChart>
      <c:catAx>
        <c:axId val="693987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98339"/>
        <c:crosses val="autoZero"/>
        <c:auto val="1"/>
        <c:lblAlgn val="ctr"/>
        <c:lblOffset val="100"/>
        <c:noMultiLvlLbl val="0"/>
      </c:catAx>
      <c:valAx>
        <c:axId val="10998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987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A10-76B5-4639-9782-DC972599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57DB-D50E-4E1D-A934-49BC916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A1F-A0E9-4CDF-97C5-3B5E01B1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14C-2E50-42A9-8973-46669F52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F944-D958-4494-AC27-6C4E9BE4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1F8-1AE1-47D8-A449-B1CFAE0C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202-9476-477A-822D-23FD10F2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30D-ED79-4CFB-AF72-55FF8647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564-4EC7-4D63-8D1B-34F7F746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565-70B2-4E30-A62B-6C010F06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E46-7E0B-4760-AE3F-1D873892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48E-30FC-4452-A7AD-7D6B17F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7026D-4C36-4BAC-90A4-28A781A42C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