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18743"/>
        <c:axId val="33026114"/>
      </c:barChart>
      <c:catAx>
        <c:axId val="93818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26114"/>
        <c:crosses val="autoZero"/>
        <c:auto val="1"/>
        <c:lblAlgn val="ctr"/>
        <c:lblOffset val="100"/>
        <c:noMultiLvlLbl val="0"/>
      </c:catAx>
      <c:valAx>
        <c:axId val="33026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18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B53-0BAB-48F1-876A-B9FACB95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AE4-135A-4D77-A222-2651249F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C09-5C1E-4FD5-A1DD-DE5588CA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4A4-1A3B-40C5-AC50-1D727ECA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DBF-782F-4295-9B85-8D0B48A4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9EB-EA2C-4A92-A387-89A049CD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47E-6689-4667-ABE0-05D17DD8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837-DB87-4053-9DC4-41E6792D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9E1-D84C-4DF8-AA2C-2398712A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B005-1945-437A-AAFA-4BFA2A49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82B6-7B61-4C15-AA9F-CD4B4401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FF9-AEAD-4E98-9DA1-C48876A0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21F8E-6A3D-4E5A-BDBB-3FCBE7CF1B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