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78184"/>
        <c:axId val="16021507"/>
      </c:barChart>
      <c:catAx>
        <c:axId val="95378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1507"/>
        <c:crosses val="autoZero"/>
        <c:auto val="1"/>
        <c:lblAlgn val="ctr"/>
        <c:lblOffset val="100"/>
        <c:noMultiLvlLbl val="0"/>
      </c:catAx>
      <c:valAx>
        <c:axId val="16021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78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912-9EBE-47E7-8E35-A3F9E2A2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727-2EAF-440E-AAA1-5E3A864C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29A-A127-487D-B817-A4108DAF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823-B88F-4576-98D4-B28A21C2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B73-715F-4612-A017-C1E9A11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8C7-A120-43A5-83E6-C794DE2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FD4-B9C6-4B16-AF2C-F2A20057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F40-5388-447C-A5EA-800CD87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FD9-375E-4668-871D-8CB0B6D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A60-DAF8-4B57-A675-02A30B6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205-B6FC-4BD3-84BB-4CB912A5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94E-097B-4A9A-A280-5BD2E97B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80BDC-07EC-4EFA-BC9E-06DD6EB2C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