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95321"/>
        <c:axId val="81660028"/>
      </c:barChart>
      <c:catAx>
        <c:axId val="89095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60028"/>
        <c:crosses val="autoZero"/>
        <c:auto val="1"/>
        <c:lblAlgn val="ctr"/>
        <c:lblOffset val="100"/>
        <c:noMultiLvlLbl val="0"/>
      </c:catAx>
      <c:valAx>
        <c:axId val="81660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95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956-4D03-4E98-809B-068DDD7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FD7-0DA8-4F93-A107-CCC34ADD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9F1-884B-4571-AF42-72DFD040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F8B-8F06-4C04-99AF-553F0500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0D1-88C1-4E9E-9583-ACFC7078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B00-7278-4C19-86C2-61F3F5ED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C63-562A-4E40-83A3-D142BEF8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B9B-0D00-4321-8DAF-587C472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E58-CCFF-4A88-B5C8-5D795778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4B5-E421-4B3B-A572-CEA6A543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C1E-1BA8-4C29-AF17-86E5577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F52-F61A-42EF-99E5-4A58B984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9FBF6-E5F6-4C01-B416-3A754AD01D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