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84667"/>
        <c:axId val="19445743"/>
      </c:barChart>
      <c:catAx>
        <c:axId val="83884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45743"/>
        <c:crosses val="autoZero"/>
        <c:auto val="1"/>
        <c:lblAlgn val="ctr"/>
        <c:lblOffset val="100"/>
        <c:noMultiLvlLbl val="0"/>
      </c:catAx>
      <c:valAx>
        <c:axId val="19445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84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975C-12DF-4762-B3ED-22FCD381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15C7-3252-467B-B3EE-03FD5778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2E4-C723-4F06-BE6E-A0128FA1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BA3F-77F5-4A88-8893-5771CFFA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D51-92C4-4656-9A7D-B7D436C6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D7B-922C-4B27-9500-FE25CCC8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6D66-3458-497D-81F6-17916EC4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524D-F6C0-4A7E-A3A8-5ACD2BDF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30EE-C4DC-4243-8A61-3353E3A2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0AE-C72E-4454-A841-90584BF3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035F-1C76-4D32-B999-FED00382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1E1-8627-4779-806A-7E77813E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47D01-F17A-4F9D-8BC4-BED0FBFDCC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