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777421"/>
        <c:axId val="6505141"/>
      </c:barChart>
      <c:catAx>
        <c:axId val="36777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05141"/>
        <c:crosses val="autoZero"/>
        <c:auto val="1"/>
        <c:lblAlgn val="ctr"/>
        <c:lblOffset val="100"/>
        <c:noMultiLvlLbl val="0"/>
      </c:catAx>
      <c:valAx>
        <c:axId val="65051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77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43FD-916F-4AEB-9440-E4C26168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57C-E88B-45CF-88AA-869B10CF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8BD-C63B-4DA6-A8F0-4071CC65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672E-8D04-47AA-91B8-C6D1A173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195D-CB29-43AC-8687-CCDFA9BB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D31D-C505-4C42-8A24-7421F5D2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C42F-BC88-431B-98B3-B2499BE7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FAA8-FED0-4193-A5AD-96E51C47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A74-9FB8-44CE-808C-976FFB39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D37-C621-44AC-B915-82861E2B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82BB-2CD4-439B-9AC6-2FE11A27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C1FC-3340-422A-9031-03D874EA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BD0EA-E9A8-4705-B20E-D35E48BAE2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