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74560"/>
        <c:axId val="23331457"/>
      </c:barChart>
      <c:catAx>
        <c:axId val="58974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1457"/>
        <c:crosses val="autoZero"/>
        <c:auto val="1"/>
        <c:lblAlgn val="ctr"/>
        <c:lblOffset val="100"/>
        <c:noMultiLvlLbl val="0"/>
      </c:catAx>
      <c:valAx>
        <c:axId val="23331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74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265-7BA6-42A7-8570-9F164DF4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C04-8F8D-465B-8612-F662C0B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4BC-5DD9-4E38-8E0B-270ED9A6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CD8-84D0-475D-8885-ED28A410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52A-ADF1-4162-B168-B08AB7B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503-5140-479F-BCAC-70C342E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ACB-588C-48E7-BD93-18F80E63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DE4-247C-4C72-B7F5-5E784595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CC1-2364-4A2A-8F87-BC7F5DE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BF2-8D1A-4E84-8276-E47C9DE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94B-753D-41E1-A7DC-E30712C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E78-EBBD-4C17-B228-A171517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A43B-E0C9-476C-B550-58C6CFE82B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