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31649"/>
        <c:axId val="52680730"/>
      </c:barChart>
      <c:catAx>
        <c:axId val="46131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80730"/>
        <c:crosses val="autoZero"/>
        <c:auto val="1"/>
        <c:lblAlgn val="ctr"/>
        <c:lblOffset val="100"/>
        <c:noMultiLvlLbl val="0"/>
      </c:catAx>
      <c:valAx>
        <c:axId val="52680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31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C5C-C295-4F0B-8816-D3948C5B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6A7-7B8C-40DA-821C-1F2AAAB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D09-BE93-4F45-8784-EE000061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94C-F933-4C66-AC7D-69B217FC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EB1-8173-4638-A581-47B13D6E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EDE-5220-4EC5-95C6-12EE5560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6B0-27E6-41AF-A4D9-32604B64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745-A096-43F7-BC50-C4AE8B1D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9E9-EE39-4A4C-9A79-42F3FC1F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213-6726-424A-A9E2-1CB46B7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CBC-3EA4-43F8-B7EB-CC7A32C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A48-0962-40E4-9E18-0D31445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8981D-BE83-4280-A678-C85EAE7D5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