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0619350"/>
        <c:axId val="23531554"/>
      </c:barChart>
      <c:catAx>
        <c:axId val="8061935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531554"/>
        <c:crosses val="autoZero"/>
        <c:auto val="1"/>
        <c:lblAlgn val="ctr"/>
        <c:lblOffset val="100"/>
        <c:noMultiLvlLbl val="0"/>
      </c:catAx>
      <c:valAx>
        <c:axId val="2353155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61935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74EB9-2D9A-430A-9CEB-62EE37E10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2B4E7-48A8-4A6D-96FD-7162B0025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D18FF-9D61-4ABC-813D-82207BA69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1CE8D-673E-4D3F-8A1F-0F951561D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05D3D-71D6-4F72-A44E-93ED416B5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38B01-18FF-42F5-A234-1C68A60AF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DA308-9BED-4D12-8C29-6FE6656E2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FCD91-C222-4083-AD93-254353502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F8F56-87F1-44F5-971A-FAFB89144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56332-A1CA-43FE-B0F0-7B35EAEFD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B097E-C5D9-4C7F-8A8B-A77244658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D79C1-C59B-4266-B319-E94D5BAE3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364393-F4AF-4303-A059-4775BA3FBE4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