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72692"/>
        <c:axId val="97585307"/>
      </c:barChart>
      <c:catAx>
        <c:axId val="53572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85307"/>
        <c:crosses val="autoZero"/>
        <c:auto val="1"/>
        <c:lblAlgn val="ctr"/>
        <c:lblOffset val="100"/>
        <c:noMultiLvlLbl val="0"/>
      </c:catAx>
      <c:valAx>
        <c:axId val="97585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72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1EB-B922-49E4-8F95-261378CF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7A7-7516-4D8A-81C5-35F4BBD6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921-6078-4D93-AAA1-DA92F76A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B90-73EF-4E98-BC7E-EEB8104F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659-20D2-4DF5-A939-956CAD8E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2E5-2169-4FDB-A2A5-FC293ADD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E29-81A9-47FF-9C3C-A727B597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64C-9AF6-44AF-B7A5-EA2028BB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156-A57F-4347-AFA2-8C5B03A2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DA9-EA51-460B-A093-4C66F431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95E-A92A-4D0E-A4EB-7D57A6CE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5AE-A42F-470D-B334-907B38BF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331CA-08BE-4653-8AA2-37836DD514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