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17013"/>
        <c:axId val="49006124"/>
      </c:barChart>
      <c:catAx>
        <c:axId val="54017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06124"/>
        <c:crosses val="autoZero"/>
        <c:auto val="1"/>
        <c:lblAlgn val="ctr"/>
        <c:lblOffset val="100"/>
        <c:noMultiLvlLbl val="0"/>
      </c:catAx>
      <c:valAx>
        <c:axId val="49006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17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198-22BA-4CF4-8312-27F09622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117-C55B-47CD-BD66-539C0A2C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867-C0DF-4363-A681-13459730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602-2B03-473C-9B01-E6110B6A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3AB-EDAA-4AD5-94D9-739B4E90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1A3-7D8E-45AD-B747-0FC7F55B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BA1-4839-4124-BA5B-A83D19C4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2F1-293A-49F0-9BDD-B1DD3575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863-CF88-4285-90FE-1AC3C0D1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D03-0E30-4C4C-B289-604D0763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B8D-AFE1-4C0E-950E-B4892B7B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9FC-D58A-421E-997B-339AD0D6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7EB8E-7CBC-4AC4-9358-764E338FBA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