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582835"/>
        <c:axId val="62163590"/>
      </c:barChart>
      <c:catAx>
        <c:axId val="495828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63590"/>
        <c:crosses val="autoZero"/>
        <c:auto val="1"/>
        <c:lblAlgn val="ctr"/>
        <c:lblOffset val="100"/>
        <c:noMultiLvlLbl val="0"/>
      </c:catAx>
      <c:valAx>
        <c:axId val="621635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828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0150-37F9-4FDC-8AF4-799D74E0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914C-50D8-4569-9CE7-A152FA2D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386C-E00E-4C48-9B22-15091666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536C-7AE1-4DC4-8932-F7734F0C1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EC65-340D-4ED1-B8D2-99C1E24E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AFB-3A57-4167-AAB5-360EF00E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3F9-7C8A-4561-8A0C-39FE26D9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DE12-D589-4F95-B40A-19BA7BA3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B18-5826-4BB1-B16B-9300500D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53D-B41E-403A-A760-E36CC8C4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8EC6-FC08-45E3-9C96-9D9E6627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0C6-4DA0-4EAC-BFEE-5FC3FF4A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81144-CDAC-4A79-AE0B-9419CAF2BA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