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418130"/>
        <c:axId val="55731283"/>
      </c:barChart>
      <c:catAx>
        <c:axId val="704181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31283"/>
        <c:crosses val="autoZero"/>
        <c:auto val="1"/>
        <c:lblAlgn val="ctr"/>
        <c:lblOffset val="100"/>
        <c:noMultiLvlLbl val="0"/>
      </c:catAx>
      <c:valAx>
        <c:axId val="557312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4181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0111-83E9-4107-8343-82FDD7C2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9D7D-E8F7-4D41-9773-87C9A587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EF78-F1D8-463D-85F9-E18199DD9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32BB-2AE9-49BC-90B6-7F2ECD57B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2BAC-A7B2-4A72-9E15-75C068EB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4C00-F31D-4200-88E3-27B39EC6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E3F2-4813-4B5E-B6B4-B9843169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81F5-43C6-4232-93BA-3FBB6AC9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0399-EF62-4BDC-B9F3-53BF299D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5EF2-8574-4247-A882-11002D49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BA44-88AE-489C-8A15-12F812C3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E830-13BD-4312-828F-615475E8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D0827-51FC-42E0-B230-F0228C8FBB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