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105115"/>
        <c:axId val="84277343"/>
      </c:barChart>
      <c:catAx>
        <c:axId val="40105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77343"/>
        <c:crosses val="autoZero"/>
        <c:auto val="1"/>
        <c:lblAlgn val="ctr"/>
        <c:lblOffset val="100"/>
        <c:noMultiLvlLbl val="0"/>
      </c:catAx>
      <c:valAx>
        <c:axId val="84277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05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015D-D9BD-43F2-A39C-FA4C6708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C05-CFFA-404E-900D-F861C5D9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719-81CC-45CF-9313-A4B93FD5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4C0-16DB-41D8-88C2-D617CD57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680-1B36-48DB-B5D6-22CDF201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8D9-6983-42A1-8A8F-CF1766B0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6B8-221A-456B-85E1-F3466CA0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F8C1-146A-4AD4-B9DA-317945F9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1C1-7605-4ECB-91B2-1F43BA3A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723-993A-4790-8058-CCA109AD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DD3-90DA-4634-9451-9533E6C2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F51-E2DA-435F-922E-4D377CD7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56EAF-2DFF-4B85-B59A-8F7F7D061E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