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26253"/>
        <c:axId val="77497246"/>
      </c:barChart>
      <c:catAx>
        <c:axId val="73026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97246"/>
        <c:crosses val="autoZero"/>
        <c:auto val="1"/>
        <c:lblAlgn val="ctr"/>
        <c:lblOffset val="100"/>
        <c:noMultiLvlLbl val="0"/>
      </c:catAx>
      <c:valAx>
        <c:axId val="77497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26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FB4-38CF-489C-8A41-7997E482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A7A-AA7F-4B5B-AFEA-F9CDE9EF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B65-E766-46E7-8428-8C3E09F8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679-0935-4C50-B031-4E23429C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C83-0AA2-4308-BF86-BC530F3E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0F4-9CBD-445F-98C7-8336FE20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AF6-8656-43EA-938C-84D67FB8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1E7-D735-43DC-8B9A-9E83428D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A5A-BFAB-4749-8378-C6050941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A53-D4CD-4CD1-82ED-D9C5E6E5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554-EE92-49EB-B3A8-86C1A9DC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E3D-B950-4604-AB5C-B05B3534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1FC5B-AE25-41F8-B086-4BB1277483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