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4394474"/>
        <c:axId val="87773270"/>
      </c:barChart>
      <c:catAx>
        <c:axId val="7439447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773270"/>
        <c:crosses val="autoZero"/>
        <c:auto val="1"/>
        <c:lblAlgn val="ctr"/>
        <c:lblOffset val="100"/>
        <c:noMultiLvlLbl val="0"/>
      </c:catAx>
      <c:valAx>
        <c:axId val="8777327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39447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B9412-0110-411E-ACB6-D5F19EAF1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D4CB4-0FC8-4F9E-A9E1-04C856961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0354A-E870-465E-89CE-2E3ECF35D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E8D6D-546E-48B1-BC66-7F2807FB7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0D540-0C36-4E79-93C1-196059E78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15FFF-7B1F-4FC8-8CC5-5BE01BF55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E141C-97EA-4408-869F-02221D133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E0A71-15C0-4D5D-828C-CCF84AE96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B499B-06E1-4552-8746-35C9A44C1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00BBA-DD80-4E97-9CAE-00D36ECBE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89D0F-CB00-4AFF-BE34-0C08CF3D4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ACC10-A7A3-49C4-AE47-E79931D17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A0C6B1-2216-45A5-B921-22A43D6E2A8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