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72528"/>
        <c:axId val="60762256"/>
      </c:barChart>
      <c:catAx>
        <c:axId val="31725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62256"/>
        <c:crosses val="autoZero"/>
        <c:auto val="1"/>
        <c:lblAlgn val="ctr"/>
        <c:lblOffset val="100"/>
        <c:noMultiLvlLbl val="0"/>
      </c:catAx>
      <c:valAx>
        <c:axId val="607622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25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CFF-0933-46EE-BC4A-B66CD33B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D7CB-8DE1-495F-94D7-2BCEF990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E947-2A15-4ACD-8604-57BEB5CA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416C-8E1B-4973-B9DF-42CA6E21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0DD5-23B0-4453-8F9F-2399629E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3B3-A3EC-472E-89D3-288AB5F5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7CA-2CD0-4797-80F5-4D9DBE88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3829-2AE9-447B-B1D5-DF5BBE71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FAD-231E-4459-943C-A0399CF8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05D0-B00E-40C8-BE35-331B9148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C463-372E-4FE9-905A-3DC8FA65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16F-B73A-4B87-A56A-8C217B66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BFD74-A839-48CB-AAB8-A010AEE627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