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65297"/>
        <c:axId val="62985676"/>
      </c:barChart>
      <c:catAx>
        <c:axId val="84565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85676"/>
        <c:crosses val="autoZero"/>
        <c:auto val="1"/>
        <c:lblAlgn val="ctr"/>
        <c:lblOffset val="100"/>
        <c:noMultiLvlLbl val="0"/>
      </c:catAx>
      <c:valAx>
        <c:axId val="62985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65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1B3-4F2A-4CBC-BC7B-1579E253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44B4-CA5E-444C-8E36-208C70BE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9DC-E67F-46AF-BBBC-E93013C8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30F-9973-45E0-9220-D76F027A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EEE-19D9-4B34-AE57-BD4A05CB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1B1-4910-493B-9AA2-9BCCC705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A86-6CEC-44C5-8C3A-BC14B798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D6E-CA0F-487E-8456-28A574B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2CD-A672-4BF0-A72F-770634B3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486-7377-4E89-9818-D3ED10DC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A94D-E461-4C35-A11C-CAF67F05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247-3BAF-4CB7-91BC-9519DDD8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55BB6-2C34-4889-A275-5AEC8DDDCA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