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3330"/>
        <c:axId val="29703599"/>
      </c:barChart>
      <c:catAx>
        <c:axId val="8090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03599"/>
        <c:crosses val="autoZero"/>
        <c:auto val="1"/>
        <c:lblAlgn val="ctr"/>
        <c:lblOffset val="100"/>
        <c:noMultiLvlLbl val="0"/>
      </c:catAx>
      <c:valAx>
        <c:axId val="29703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777-D9D0-4BBE-88B6-D4B682E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239-E643-4947-970A-C4D54A3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934-88F7-4EB0-AC75-C2179E95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8EF-CA42-48C0-8757-20F0FF0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301-9F3C-451B-80DF-583558C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90A-BAA9-43D5-9CC1-85931E7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989-D79E-4DD7-8097-F92A051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62B-98FE-49D3-8822-DE488220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F48-ACEA-47B0-9358-9853D4A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C70-A75F-4691-9D35-4A4BD52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361-82BD-4B99-A2D5-60A4A17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D84-9D63-4347-BB8A-A866372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E5663-3380-4A7C-AE31-A3B7D9B17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