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98240"/>
        <c:axId val="12190847"/>
      </c:barChart>
      <c:catAx>
        <c:axId val="68098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0847"/>
        <c:crosses val="autoZero"/>
        <c:auto val="1"/>
        <c:lblAlgn val="ctr"/>
        <c:lblOffset val="100"/>
        <c:noMultiLvlLbl val="0"/>
      </c:catAx>
      <c:valAx>
        <c:axId val="12190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98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145-E710-46AE-B5AF-A53E67D8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6C5-5B5B-45E2-8412-6698533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373-A07C-4817-804E-1F29825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12B-CC6C-4629-B995-19F7AD76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100-7924-4B0E-8E3C-384222B4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8D1-A05C-4AFC-818A-B96CB831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5C0-2122-4ABE-A36A-C0B102E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844-AF91-46F1-9C05-CCAE120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B8B-744F-49E9-BE25-00F55DEB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F0B-756E-47CE-B891-8EE28F4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961-382D-4C48-B646-0D194F1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CF4-2716-4115-AE09-9CD4FB4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7FD3F-2257-4241-B722-0AEBF452B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