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87794"/>
        <c:axId val="34135184"/>
      </c:barChart>
      <c:catAx>
        <c:axId val="21287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5184"/>
        <c:crosses val="autoZero"/>
        <c:auto val="1"/>
        <c:lblAlgn val="ctr"/>
        <c:lblOffset val="100"/>
        <c:noMultiLvlLbl val="0"/>
      </c:catAx>
      <c:valAx>
        <c:axId val="34135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87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9DA-7604-437B-BB19-7FD310EB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34B-0669-4875-99E3-150B42D1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733-60CB-4691-AEEF-AD51990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313-2967-49C8-864A-10C9132D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B4E-3BBA-4F4D-9DF8-691EFE6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8E3-44CC-47AE-B6DC-0C0EA6AA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5A1-7B6E-4409-B165-D999787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8A7-0C44-44ED-9D6F-70564BD0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989-33F3-4C96-80D5-43F41AD1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325-CED4-45FF-8F06-06C9FAF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B23-9F7F-401F-A4AF-0E9EEC6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AA7-386F-4D3E-A600-5CA8977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AA709-567F-4147-B1F2-E94EB2E167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