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42398"/>
        <c:axId val="12510996"/>
      </c:barChart>
      <c:catAx>
        <c:axId val="15142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10996"/>
        <c:crosses val="autoZero"/>
        <c:auto val="1"/>
        <c:lblAlgn val="ctr"/>
        <c:lblOffset val="100"/>
        <c:noMultiLvlLbl val="0"/>
      </c:catAx>
      <c:valAx>
        <c:axId val="12510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42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32A5-FD71-460D-B328-A9A14B0D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322-A1D4-4C03-A235-B67E54F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88F-2571-402C-B7FE-5F655FFC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9FC0-7695-478C-815A-4E108A46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4E6-E344-475F-9251-165FF3F5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799-4055-41C2-A530-5C86AA1D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9E2-763A-4451-B532-50EB6F04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009-14F8-401B-902C-51D87AB0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2FB-FE74-4634-9D81-94ECE9CE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666-124C-4090-937D-61E9FC9D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905-0A97-4ED6-A9E8-5AD5C987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71E-B79F-4BE9-A969-0D2D69AF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E6269-A1F0-4B7D-B791-4B20FD7744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