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00682"/>
        <c:axId val="55369352"/>
      </c:barChart>
      <c:catAx>
        <c:axId val="15100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9352"/>
        <c:crosses val="autoZero"/>
        <c:auto val="1"/>
        <c:lblAlgn val="ctr"/>
        <c:lblOffset val="100"/>
        <c:noMultiLvlLbl val="0"/>
      </c:catAx>
      <c:valAx>
        <c:axId val="5536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0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9FF-DAE7-4F86-88A2-219E37E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9F2-BB6F-47D9-B602-2E0B8E0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F1F-2065-4E95-840A-F4F73B1F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CC2-E8EB-4AC8-96F8-22A3FE6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C91-B9A8-4846-8B83-9233903D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6BE-8423-4BAA-85C5-618BFA69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58-3F2E-4AD8-BA6D-82AD7FA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DE9-2B5F-40B5-9375-6A66C88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E25-9382-46C8-8D94-CC4740E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23B-DFE3-4B63-9689-DA7A5B2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E5A-C9F3-431D-8641-BED59F7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972-3AC2-4782-89E6-39CEF49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E7FB-4B5C-4FD7-B975-958A93A2A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