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4103"/>
        <c:axId val="14160445"/>
      </c:barChart>
      <c:catAx>
        <c:axId val="75014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60445"/>
        <c:crosses val="autoZero"/>
        <c:auto val="1"/>
        <c:lblAlgn val="ctr"/>
        <c:lblOffset val="100"/>
        <c:noMultiLvlLbl val="0"/>
      </c:catAx>
      <c:valAx>
        <c:axId val="14160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4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138-A22E-4231-8B05-3027055E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D3D-FC45-49D6-B18B-EBF63CF9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975-A29C-4449-9CD7-F13794F6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14E-C62B-4B19-AE33-F3464348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E54-ADD5-40B9-86AE-4B2F8B9E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E8F-64C4-4486-A18C-AC2D960E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D73-F67D-43BE-BB10-FFCC6742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DF0-5C11-4844-97CB-016DFD7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8E2-F96A-48BA-8AA9-EDF9C19B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B07-B896-4833-AB81-6585003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937-0E2B-4D81-B0C3-7D89C2F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6CE-46AC-48C8-BF28-BD14A0B1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DE6E9-82B4-48AC-9807-D06AF893FC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