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74656"/>
        <c:axId val="28441756"/>
      </c:barChart>
      <c:catAx>
        <c:axId val="49374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41756"/>
        <c:crosses val="autoZero"/>
        <c:auto val="1"/>
        <c:lblAlgn val="ctr"/>
        <c:lblOffset val="100"/>
        <c:noMultiLvlLbl val="0"/>
      </c:catAx>
      <c:valAx>
        <c:axId val="28441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4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785-05E9-4538-B90C-B45A94AC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F27-C5AE-4ABC-AFB1-0D9EDFFE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D36-4C4B-4324-9601-F7D45B70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FDA-CC2E-4230-87C5-0A21F985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38A-3211-4048-A68D-FF123609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485-A709-419E-8D26-CA8A0084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F14-BCD9-41E2-B9C2-E37E23E5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9BD-514F-4831-944C-1C7BD1EE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B19-04A4-4AB1-B2D5-95F5283F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FD0-2CC0-4A86-AC1C-8A245227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522-CBF7-4FD4-85B8-DCF4FB53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340-D93E-4DFB-9309-418599E8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02485-38AE-48DE-97D1-93C7A8983D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