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09556"/>
        <c:axId val="20021589"/>
      </c:barChart>
      <c:catAx>
        <c:axId val="28309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21589"/>
        <c:crosses val="autoZero"/>
        <c:auto val="1"/>
        <c:lblAlgn val="ctr"/>
        <c:lblOffset val="100"/>
        <c:noMultiLvlLbl val="0"/>
      </c:catAx>
      <c:valAx>
        <c:axId val="20021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09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CB0-6547-4788-A138-B6A3E8FD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8DF-CE68-44B3-A0B0-10340979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C91-B894-4369-8E70-4EB932BF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4C1-B153-43B0-9B95-8DAD732A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359-E1F7-4A14-87B0-F82F7F5B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AA0-13A2-4BAA-9D3E-8291BBA7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671-8CDC-475D-AED0-95985205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2EF-3984-47F7-89BD-3D0A1ED2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870-29F8-4782-9050-11965D4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7AF-C5BB-439E-9530-9DD605D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9F6-6A4A-4C17-BC26-CC277071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395-AD65-47CA-88C5-3A630C06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10294-B681-42EB-B672-6717BC8314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