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0317"/>
        <c:axId val="95905492"/>
      </c:barChart>
      <c:catAx>
        <c:axId val="4630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05492"/>
        <c:crosses val="autoZero"/>
        <c:auto val="1"/>
        <c:lblAlgn val="ctr"/>
        <c:lblOffset val="100"/>
        <c:noMultiLvlLbl val="0"/>
      </c:catAx>
      <c:valAx>
        <c:axId val="95905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0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7F2-7358-4191-AEFD-D097D914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F8A-A838-4732-9EB0-752B3054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D37-278E-4750-AB8E-6BE8CC8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C32-129C-46FB-BF1B-C19284AA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229-6AE1-493B-9B4C-E83BA53D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1A8-8818-4263-BC26-C8F5300F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BF7-1D2C-463F-B866-AE5EC5E7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4EB-09D1-4260-9444-87CA0EAB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8AB-7F25-4718-B185-F4492D9D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28E-BB2A-4883-BEB1-AFD9540D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E2C-F94F-43DB-B0DA-24AD7E70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1F9-8D59-4D9C-9258-7F6DE207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7A08-FD08-4008-B0BD-E32D62F6EB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