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16400"/>
        <c:axId val="43010339"/>
      </c:barChart>
      <c:catAx>
        <c:axId val="41816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10339"/>
        <c:crosses val="autoZero"/>
        <c:auto val="1"/>
        <c:lblAlgn val="ctr"/>
        <c:lblOffset val="100"/>
        <c:noMultiLvlLbl val="0"/>
      </c:catAx>
      <c:valAx>
        <c:axId val="43010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16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FE3-9AAB-4EC8-9EFD-C975C17D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52E-FC06-47FB-B52B-EB58E1F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9DB-7248-4A02-A6C0-1A0044BD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564-3102-47CF-BD83-549290C6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86A-EA36-4754-9D7D-1BA2F8AB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6A8-4265-43C3-B33D-1001180E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283-4E40-4B02-BA82-A3D7AAB5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38C-D5E6-4556-8E85-477CEE20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7A3-5465-4046-AD13-9D033131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845-3925-4B1F-9D14-D17FDC3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410-65EC-446A-978C-539B02C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130-B6E9-493A-8800-47A4294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E8EF7-07E0-44D0-8BF7-0CCE4B104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