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03080"/>
        <c:axId val="10360374"/>
      </c:barChart>
      <c:catAx>
        <c:axId val="48903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0374"/>
        <c:crosses val="autoZero"/>
        <c:auto val="1"/>
        <c:lblAlgn val="ctr"/>
        <c:lblOffset val="100"/>
        <c:noMultiLvlLbl val="0"/>
      </c:catAx>
      <c:valAx>
        <c:axId val="10360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03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13F-673F-43FF-9B58-639403CC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1AB-1A15-4FBB-9D0B-70860EE0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F90-388D-4B1D-8D71-19F3570F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987-44EC-4CDB-94A3-1DF49D09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1F3-989F-4EFA-BB17-DF17E125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374-C6AC-4380-AFE7-70ABAC32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2E5-DB8C-4F5E-B1C1-75296647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064-AF86-4B2E-AFE1-F09824E5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139-3902-420A-ABAC-D6105AEF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EFC-4AD4-45A1-AC89-B4D138C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E7D-EB2F-47BA-BAD2-66FC3AA4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8CF-6AA2-4D4D-9124-BDB68E6C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D735B-F9D4-4E7D-9922-1B18F300C2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